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3A3279-68D6-4EF4-9EBB-A9D81F8244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898992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760" y="3818880"/>
            <a:ext cx="898992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760" y="381888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320" y="381888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4240" y="91404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720" y="91404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760" y="381888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4240" y="381888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720" y="381888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760" y="914040"/>
            <a:ext cx="8989920" cy="55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898992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3240"/>
            <a:ext cx="82278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760" y="381888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320" y="381888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760" y="3818880"/>
            <a:ext cx="898992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" y="914040"/>
            <a:ext cx="898992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527880"/>
            <a:ext cx="9140760" cy="54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5120" y="655308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400" spc="-1" strike="noStrike">
                <a:solidFill>
                  <a:srgbClr val="3366cc"/>
                </a:solidFill>
                <a:latin typeface="Arial"/>
              </a:rPr>
              <a:t>Ignacio M. Llorente, </a:t>
            </a:r>
            <a:r>
              <a:rPr b="1" i="1" lang="en-GB" sz="1400" spc="-1" strike="noStrike">
                <a:solidFill>
                  <a:srgbClr val="3366cc"/>
                </a:solidFill>
                <a:latin typeface="Arial"/>
              </a:rPr>
              <a:t>Rubén S. Montero</a:t>
            </a:r>
            <a:r>
              <a:rPr b="0" i="1" lang="en-GB" sz="1400" spc="-1" strike="noStrike">
                <a:solidFill>
                  <a:srgbClr val="3366cc"/>
                </a:solidFill>
                <a:latin typeface="Arial"/>
              </a:rPr>
              <a:t> and Eduardo Hu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47400" y="65530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808080"/>
                </a:solidFill>
                <a:latin typeface="Arial"/>
              </a:rPr>
              <a:t>i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78920" y="573552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08320" y="5991120"/>
            <a:ext cx="4240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Distributed Systems Architecture &amp; Securit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Dpto. de Arquitectura de Computadores y Auto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Facultad de Informática (UCM)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013440"/>
            <a:ext cx="367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Laboratorio de Computación Avanz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entro de Astrobiología (INTA - CSIC)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Associated to NASA Astrobiology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3754440"/>
            <a:ext cx="195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bén S. Mont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nacio M. Llo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6440" y="3881520"/>
            <a:ext cx="15962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uardo Hue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390920"/>
            <a:ext cx="14824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03200" y="1249200"/>
            <a:ext cx="8283600" cy="1874880"/>
            <a:chOff x="403200" y="1249200"/>
            <a:chExt cx="8283600" cy="1874880"/>
          </a:xfrm>
        </p:grpSpPr>
        <p:sp>
          <p:nvSpPr>
            <p:cNvPr id="57" name=""/>
            <p:cNvSpPr/>
            <p:nvPr/>
          </p:nvSpPr>
          <p:spPr>
            <a:xfrm>
              <a:off x="509760" y="1438200"/>
              <a:ext cx="8177040" cy="1452600"/>
            </a:xfrm>
            <a:prstGeom prst="roundRect">
              <a:avLst>
                <a:gd name="adj" fmla="val 7394"/>
              </a:avLst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  <a:effectLst>
              <a:outerShdw dist="15273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200" y="1249200"/>
              <a:ext cx="817092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57120" algn="ctr">
                <a:lnSpc>
                  <a:spcPct val="93000"/>
                </a:lnSpc>
                <a:tabLst>
                  <a:tab algn="l" pos="0"/>
                  <a:tab algn="l" pos="357120"/>
                  <a:tab algn="l" pos="1271520"/>
                  <a:tab algn="l" pos="2185920"/>
                  <a:tab algn="l" pos="3100320"/>
                  <a:tab algn="l" pos="4014720"/>
                  <a:tab algn="l" pos="4929120"/>
                  <a:tab algn="l" pos="5843520"/>
                  <a:tab algn="l" pos="6757920"/>
                  <a:tab algn="l" pos="7672320"/>
                  <a:tab algn="l" pos="8586720"/>
                  <a:tab algn="l" pos="9501120"/>
                  <a:tab algn="l" pos="10415520"/>
                  <a:tab algn="l" pos="105156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The Grid</a:t>
              </a:r>
              <a:r>
                <a:rPr b="0" i="1" lang="en-GB" sz="32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ay approach for job Submission and Management on Gri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14840" y="4362480"/>
            <a:ext cx="142884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aptive Job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9640" y="930240"/>
            <a:ext cx="8064720" cy="2449440"/>
            <a:chOff x="539640" y="930240"/>
            <a:chExt cx="8064720" cy="2449440"/>
          </a:xfrm>
        </p:grpSpPr>
        <p:sp>
          <p:nvSpPr>
            <p:cNvPr id="240" name=""/>
            <p:cNvSpPr/>
            <p:nvPr/>
          </p:nvSpPr>
          <p:spPr>
            <a:xfrm>
              <a:off x="539640" y="930240"/>
              <a:ext cx="8064720" cy="24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520" y="1035000"/>
              <a:ext cx="772956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2240" indent="-192240">
                <a:lnSpc>
                  <a:spcPct val="100000"/>
                </a:lnSpc>
                <a:tabLst>
                  <a:tab algn="l" pos="0"/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Job Adaptation</a:t>
              </a:r>
              <a:r>
                <a:rPr b="0" lang="en-GB" sz="2000" spc="-1" strike="noStrike">
                  <a:solidFill>
                    <a:srgbClr val="3366cc"/>
                  </a:solidFill>
                  <a:latin typeface="Arial"/>
                </a:rPr>
                <a:t> is achieved by automatic job migration when</a:t>
              </a: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 new 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better resource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s discovered (</a:t>
              </a: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opportunistic migra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 remote host or its network connection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fai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 job is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cancelled or suspe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performance degradation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s det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requirements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f the application change (</a:t>
              </a: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self-migra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5280" y="4141800"/>
            <a:ext cx="8353440" cy="1800360"/>
            <a:chOff x="395280" y="4141800"/>
            <a:chExt cx="8353440" cy="1800360"/>
          </a:xfrm>
        </p:grpSpPr>
        <p:sp>
          <p:nvSpPr>
            <p:cNvPr id="243" name=""/>
            <p:cNvSpPr/>
            <p:nvPr/>
          </p:nvSpPr>
          <p:spPr>
            <a:xfrm>
              <a:off x="395280" y="4141800"/>
              <a:ext cx="8353440" cy="180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9440" y="4292640"/>
              <a:ext cx="820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Migration gain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opportunistic migration and performance degradation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349280" y="4894200"/>
              <a:ext cx="6586200" cy="757440"/>
              <a:chOff x="1349280" y="4894200"/>
              <a:chExt cx="6586200" cy="757440"/>
            </a:xfrm>
          </p:grpSpPr>
          <mc:AlternateContent>
            <mc:Choice xmlns:a14="http://schemas.microsoft.com/office/drawing/2010/main" Requires="a14">
              <p:sp>
                <p:nvSpPr>
                  <p:cNvPr id="246" name=""/>
                  <p:cNvSpPr txBox="1"/>
                  <p:nvPr/>
                </p:nvSpPr>
                <p:spPr>
                  <a:xfrm>
                    <a:off x="1349280" y="4894200"/>
                    <a:ext cx="4508640" cy="75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,t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,t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ank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≥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7" name=""/>
              <p:cNvSpPr/>
              <p:nvPr/>
            </p:nvSpPr>
            <p:spPr>
              <a:xfrm>
                <a:off x="5958000" y="5021280"/>
                <a:ext cx="197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07800"/>
                    </a:solidFill>
                    <a:latin typeface="Arial"/>
                  </a:rPr>
                  <a:t>User thresho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: Opportunistic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7520" y="1413000"/>
            <a:ext cx="6675480" cy="155880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7520" y="1413000"/>
            <a:ext cx="6686640" cy="271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7520" y="14479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51200" y="144792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38280" y="144792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30880" y="14479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920" y="1447920"/>
            <a:ext cx="77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36920" y="144792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040" y="16765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27680" y="1708200"/>
            <a:ext cx="133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n Blade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91480" y="170820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00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29280" y="170820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ari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77240" y="170820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56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46800" y="170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193680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dra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28760" y="196848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n Ultr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91480" y="196848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67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29280" y="196848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ari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77240" y="196848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28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6800" y="19684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960" y="2227320"/>
            <a:ext cx="76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um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30200" y="2227320"/>
            <a:ext cx="171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l Pentium M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80320" y="222732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33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19200" y="222732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ux 2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77240" y="222732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60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46800" y="222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040" y="245592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07800"/>
                </a:solidFill>
                <a:latin typeface="Arial"/>
              </a:rPr>
              <a:t>ceph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29840" y="2487600"/>
            <a:ext cx="155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l Pentium 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0320" y="248760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0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9200" y="248760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ux 2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920" y="24876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4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46800" y="24876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3960" y="274788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28760" y="2747880"/>
            <a:ext cx="17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n Enterprise 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9960" y="274788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6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29280" y="274788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ari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7240" y="274788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56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3760" y="27478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336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6060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11720" y="1413000"/>
            <a:ext cx="126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2296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62560" y="1413000"/>
            <a:ext cx="129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8680" y="141300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8680" y="141300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1512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8680" y="167328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8680" y="167328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8680" y="193212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8680" y="1932120"/>
            <a:ext cx="6675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8680" y="219240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8680" y="219240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8680" y="245268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8680" y="245268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8680" y="271152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8680" y="2711520"/>
            <a:ext cx="6675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7520" y="1413000"/>
            <a:ext cx="1440" cy="15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7520" y="1413000"/>
            <a:ext cx="11160" cy="156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1240" y="1424160"/>
            <a:ext cx="144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81240" y="1424160"/>
            <a:ext cx="111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38480" y="1424160"/>
            <a:ext cx="144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38480" y="1424160"/>
            <a:ext cx="111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89240" y="1424160"/>
            <a:ext cx="180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89240" y="1424160"/>
            <a:ext cx="129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0480" y="1424160"/>
            <a:ext cx="180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00480" y="1424160"/>
            <a:ext cx="111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0440" y="1424160"/>
            <a:ext cx="144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40440" y="1424160"/>
            <a:ext cx="1260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8680" y="297180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8680" y="297180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93000" y="1424160"/>
            <a:ext cx="144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93000" y="1424160"/>
            <a:ext cx="111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752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752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8124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8124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3848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3848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89240" y="2982960"/>
            <a:ext cx="18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89240" y="2982960"/>
            <a:ext cx="129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0480" y="2982960"/>
            <a:ext cx="18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048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4044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0440" y="2982960"/>
            <a:ext cx="1260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9300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9300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04160" y="14130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04160" y="141300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04160" y="16732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04160" y="167328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04160" y="193212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04160" y="1932120"/>
            <a:ext cx="1260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04160" y="21924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04160" y="219240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04160" y="24526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04160" y="245268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04160" y="271152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04160" y="2711520"/>
            <a:ext cx="1260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04160" y="29718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04160" y="297180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-37080" y="8604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Experimental testb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42080" y="167652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Client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42080" y="1936800"/>
            <a:ext cx="145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Execution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41720" y="245592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07800"/>
                </a:solidFill>
                <a:latin typeface="Arial"/>
              </a:rPr>
              <a:t>Fil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93080" y="1700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93080" y="19573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93080" y="24606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f078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35640" y="32130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Experi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560" y="3692520"/>
            <a:ext cx="4519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D code to solve the 3D Navier-Stokes equations using an iterative multigrid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ly the application is submitted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a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schedules wh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umb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e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omes available at different iterations of the application running on dra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72000" y="3429000"/>
            <a:ext cx="4572000" cy="2952720"/>
            <a:chOff x="4572000" y="3429000"/>
            <a:chExt cx="4572000" cy="2952720"/>
          </a:xfrm>
        </p:grpSpPr>
        <p:sp>
          <p:nvSpPr>
            <p:cNvPr id="360" name=""/>
            <p:cNvSpPr/>
            <p:nvPr/>
          </p:nvSpPr>
          <p:spPr>
            <a:xfrm>
              <a:off x="4572000" y="3429000"/>
              <a:ext cx="4505400" cy="2952720"/>
            </a:xfrm>
            <a:prstGeom prst="foldedCorner">
              <a:avLst>
                <a:gd name="adj" fmla="val 12500"/>
              </a:avLst>
            </a:prstGeom>
            <a:solidFill>
              <a:srgbClr val="ffbd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13400" y="3495600"/>
              <a:ext cx="45306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#Job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EXECUTABLE = NS3D.$GW_AR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ARGUMENTS =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PUT=“gsftp://cepheus/mesh input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OUTPUT=pro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STDOUT=stdout.$GW_JOB_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RESTART_FILE=check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REQUIREMENTS=host_req.ld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RANK=rank.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52280" y="3200400"/>
            <a:ext cx="2971800" cy="3200400"/>
          </a:xfrm>
          <a:custGeom>
            <a:avLst/>
            <a:gdLst>
              <a:gd name="textAreaLeft" fmla="*/ 77040 w 2971800"/>
              <a:gd name="textAreaRight" fmla="*/ 2894760 w 2971800"/>
              <a:gd name="textAreaTop" fmla="*/ 77040 h 3200400"/>
              <a:gd name="textAreaBottom" fmla="*/ 3123360 h 3200400"/>
            </a:gdLst>
            <a:ahLst/>
            <a:rect l="textAreaLeft" t="textAreaTop" r="textAreaRight" b="textAreaBottom"/>
            <a:pathLst>
              <a:path w="21600" h="23261">
                <a:moveTo>
                  <a:pt x="1915" y="0"/>
                </a:moveTo>
                <a:arcTo wR="1915" hR="1915" stAng="16200000" swAng="-5400000"/>
                <a:lnTo>
                  <a:pt x="0" y="21346"/>
                </a:lnTo>
                <a:arcTo wR="1915" hR="1915" stAng="10800000" swAng="-5400000"/>
                <a:lnTo>
                  <a:pt x="19685" y="23261"/>
                </a:lnTo>
                <a:arcTo wR="1915" hR="1915" stAng="5400000" swAng="-5400000"/>
                <a:lnTo>
                  <a:pt x="21600" y="1915"/>
                </a:lnTo>
                <a:arcTo wR="1915" hR="191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3962520" cy="25686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: Opportunistic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990720"/>
            <a:ext cx="228600" cy="685800"/>
          </a:xfrm>
          <a:prstGeom prst="rect">
            <a:avLst/>
          </a:pr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1371600"/>
            <a:ext cx="228600" cy="609480"/>
          </a:xfrm>
          <a:prstGeom prst="rect">
            <a:avLst/>
          </a:pr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28800" y="1295280"/>
            <a:ext cx="609480" cy="457200"/>
          </a:xfrm>
          <a:prstGeom prst="rect">
            <a:avLst/>
          </a:pr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13120" y="762120"/>
            <a:ext cx="533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Dynamic rank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solea and columba at different execution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81440" y="2390760"/>
            <a:ext cx="51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Measured Execution Profile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the application when it is actually migrated at different it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4724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81480" y="4800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5791320" cy="32068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14200" y="3247920"/>
            <a:ext cx="29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ion to solea is profitable until Iteration 2 is rea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fourth iteration the best host is columba (neares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fifth iteration  the performance gain is not high enough to compensate the file transfer 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408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25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683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6520" y="649440"/>
            <a:ext cx="67748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Related 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Job management within the same administration dom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Co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Load Sharing Facility (LSF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Sun Grid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Portable Batch System (PB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Job management for interconnection of multiple domai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Sun Grid Engine Enterprise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Condor Flo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Globus middleware for job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Condor/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Ap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Nimrod/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Job Adap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Cactus W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Gr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Gri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0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The Grid</a:t>
            </a:r>
            <a:r>
              <a:rPr b="0" i="1" lang="en-GB" sz="2400" spc="-1" strike="noStrike">
                <a:solidFill>
                  <a:srgbClr val="3366cc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Resourc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daptive Job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Example: Opportunistic Job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5840" y="3772080"/>
            <a:ext cx="8708760" cy="2666880"/>
          </a:xfrm>
          <a:prstGeom prst="roundRect">
            <a:avLst>
              <a:gd name="adj" fmla="val 129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5840" y="990720"/>
            <a:ext cx="8708760" cy="2666880"/>
          </a:xfrm>
          <a:prstGeom prst="roundRect">
            <a:avLst>
              <a:gd name="adj" fmla="val 129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tivation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103400"/>
            <a:ext cx="8153280" cy="24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lobus Tool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Enables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ecure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 multiple domain operation with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different resource managers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access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Globus compon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20160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DejaVuSans"/>
              </a:rPr>
              <a:t>Resource Management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GRAM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)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20160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DejaVuSans"/>
              </a:rPr>
              <a:t>Data Management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GridFTP &amp; Replica Catalog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)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20160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DejaVuSans"/>
              </a:rPr>
              <a:t>Grid Security Infrastructure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GSI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)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20160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DejaVuSans"/>
              </a:rPr>
              <a:t>Information Service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MDS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)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19814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590920" y="3886200"/>
            <a:ext cx="6554520" cy="2470320"/>
            <a:chOff x="2590920" y="3886200"/>
            <a:chExt cx="6554520" cy="2470320"/>
          </a:xfrm>
        </p:grpSpPr>
        <p:sp>
          <p:nvSpPr>
            <p:cNvPr id="68" name=""/>
            <p:cNvSpPr/>
            <p:nvPr/>
          </p:nvSpPr>
          <p:spPr>
            <a:xfrm>
              <a:off x="6553080" y="5934240"/>
              <a:ext cx="25909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termin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5934240"/>
              <a:ext cx="39621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w do I retrieve job outpu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5513400"/>
              <a:ext cx="2590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mi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5513400"/>
              <a:ext cx="39621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an I move my job to a better hos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53080" y="5092560"/>
              <a:ext cx="2590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moni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5092560"/>
              <a:ext cx="39621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w is my job doing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53080" y="4672080"/>
              <a:ext cx="25909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job sub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672080"/>
              <a:ext cx="39621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w do I execute my job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4251240"/>
              <a:ext cx="2590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resource prepa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4251240"/>
              <a:ext cx="39621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hat do I need (files, ...)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53080" y="3886200"/>
              <a:ext cx="25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resource se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886200"/>
              <a:ext cx="3962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here do I execute my job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886200"/>
              <a:ext cx="6553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251240"/>
              <a:ext cx="6553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4672080"/>
              <a:ext cx="6553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5092560"/>
              <a:ext cx="6553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5513400"/>
              <a:ext cx="6553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5934240"/>
              <a:ext cx="6553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6354720"/>
              <a:ext cx="6553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3886200"/>
              <a:ext cx="1440" cy="246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53080" y="3886200"/>
              <a:ext cx="1800" cy="246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0" y="3886200"/>
              <a:ext cx="1440" cy="246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887840" y="3867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U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tivation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2120" y="895320"/>
            <a:ext cx="2514600" cy="1295280"/>
          </a:xfrm>
          <a:prstGeom prst="wedgeRoundRectCallout">
            <a:avLst>
              <a:gd name="adj1" fmla="val 76513"/>
              <a:gd name="adj2" fmla="val 91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2240" indent="-192240" algn="ctr">
              <a:lnSpc>
                <a:spcPct val="11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High Faul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86440" y="895320"/>
            <a:ext cx="3733560" cy="1562040"/>
          </a:xfrm>
          <a:prstGeom prst="wedgeRoundRectCallout">
            <a:avLst>
              <a:gd name="adj1" fmla="val -49162"/>
              <a:gd name="adj2" fmla="val 65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92240" indent="-192240" algn="ctr">
              <a:lnSpc>
                <a:spcPct val="12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 Resour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time of the d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orking / non-working hour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resource loa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eak/off-pea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41880" y="2901960"/>
            <a:ext cx="2778120" cy="2209680"/>
          </a:xfrm>
          <a:prstGeom prst="wedgeRoundRectCallout">
            <a:avLst>
              <a:gd name="adj1" fmla="val -84912"/>
              <a:gd name="adj2" fmla="val -21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2240" indent="-192240" algn="ctr">
              <a:lnSpc>
                <a:spcPct val="10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 Resource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Shared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Idle hos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come 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satura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vice ver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901960"/>
            <a:ext cx="2778120" cy="2203560"/>
          </a:xfrm>
          <a:prstGeom prst="wedgeRoundRectCallout">
            <a:avLst>
              <a:gd name="adj1" fmla="val 67314"/>
              <a:gd name="adj2" fmla="val -288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2240" indent="-192240" algn="ctr">
              <a:lnSpc>
                <a:spcPct val="12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 Resource Avai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Job cancel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remote administ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Addi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remov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514600"/>
            <a:ext cx="1905120" cy="1447920"/>
          </a:xfrm>
          <a:prstGeom prst="cloudCallout">
            <a:avLst>
              <a:gd name="adj1" fmla="val 2000"/>
              <a:gd name="adj2" fmla="val -350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51440" y="4152960"/>
            <a:ext cx="704880" cy="1122480"/>
          </a:xfrm>
          <a:prstGeom prst="downArrow">
            <a:avLst>
              <a:gd name="adj1" fmla="val 46843"/>
              <a:gd name="adj2" fmla="val 59237"/>
            </a:avLst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5480" y="5403960"/>
            <a:ext cx="7696440" cy="914400"/>
            <a:chOff x="555480" y="5403960"/>
            <a:chExt cx="7696440" cy="914400"/>
          </a:xfrm>
        </p:grpSpPr>
        <p:sp>
          <p:nvSpPr>
            <p:cNvPr id="99" name=""/>
            <p:cNvSpPr/>
            <p:nvPr/>
          </p:nvSpPr>
          <p:spPr>
            <a:xfrm>
              <a:off x="555480" y="5403960"/>
              <a:ext cx="769644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6480" y="544500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07800"/>
                  </a:solidFill>
                  <a:latin typeface="Arial"/>
                </a:rPr>
                <a:t>Job must be able to</a:t>
              </a:r>
              <a:r>
                <a:rPr b="1" lang="en-GB" sz="2400" spc="-1" strike="noStrike">
                  <a:solidFill>
                    <a:srgbClr val="f07800"/>
                  </a:solidFill>
                  <a:latin typeface="Arial"/>
                </a:rPr>
                <a:t> migrate </a:t>
              </a:r>
              <a:r>
                <a:rPr b="0" lang="en-GB" sz="2400" spc="-1" strike="noStrike">
                  <a:solidFill>
                    <a:srgbClr val="f07800"/>
                  </a:solidFill>
                  <a:latin typeface="Arial"/>
                </a:rPr>
                <a:t>among grid resources to obtain</a:t>
              </a:r>
              <a:r>
                <a:rPr b="1" lang="en-GB" sz="2400" spc="-1" strike="noStrike">
                  <a:solidFill>
                    <a:srgbClr val="f07800"/>
                  </a:solidFill>
                  <a:latin typeface="Arial"/>
                </a:rPr>
                <a:t> application performance </a:t>
              </a:r>
              <a:r>
                <a:rPr b="0" lang="en-GB" sz="2400" spc="-1" strike="noStrike">
                  <a:solidFill>
                    <a:srgbClr val="f07800"/>
                  </a:solidFill>
                  <a:latin typeface="Arial"/>
                </a:rPr>
                <a:t>and</a:t>
              </a:r>
              <a:r>
                <a:rPr b="1" lang="en-GB" sz="2400" spc="-1" strike="noStrike">
                  <a:solidFill>
                    <a:srgbClr val="f07800"/>
                  </a:solidFill>
                  <a:latin typeface="Arial"/>
                </a:rPr>
                <a:t> fault tole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220760"/>
            <a:ext cx="86421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Grid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8440" y="2905200"/>
            <a:ext cx="76456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2240" indent="-192240">
              <a:lnSpc>
                <a:spcPct val="17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 u="sng">
                <a:solidFill>
                  <a:srgbClr val="3366cc"/>
                </a:solidFill>
                <a:uFillTx/>
                <a:latin typeface="Arial"/>
              </a:rPr>
              <a:t>Design Guidel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Adapt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odular desig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Scal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decentralized architectur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Deploy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user privileges, standard servic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Extensib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e of non-standard servic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Applic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ready to use for a wide range of application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1620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Project Go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Eas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efficient</a:t>
            </a:r>
            <a:r>
              <a:rPr b="0" lang="en-GB" sz="2000" spc="-1" strike="noStrike">
                <a:solidFill>
                  <a:srgbClr val="f078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ion of jobs on heterogeneous and dynamic grids in a </a:t>
            </a:r>
            <a:r>
              <a:rPr b="1" i="1" lang="en-GB" sz="2000" spc="-1" strike="noStrike">
                <a:solidFill>
                  <a:srgbClr val="f07800"/>
                </a:solidFill>
                <a:latin typeface="Arial"/>
              </a:rPr>
              <a:t>submit  &amp; forge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1800" y="3200400"/>
            <a:ext cx="8534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8534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Grid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798480"/>
            <a:ext cx="44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User Interfa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p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play job information and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1800" y="184464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urier New"/>
              </a:rPr>
              <a:t>JID AID TID DM         SM         GSM        STIME ETIME EXETIME EXIT HOST    TEMPLAT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0   --  --  submitted  prologue   --         --:-- --:-- --:--   --   columba job_templ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1   --  --  zombie     done       --         27:37 28:07 00:30   0    ursa    job_templ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7   --  --  pending    done       --         --:-- --:-- --:--   --   draco   job_templ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3026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35268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urier New"/>
              </a:rPr>
              <a:t>HOST                 RANK STIME      ETIME      EXETIME    MIGRATION_REASON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lumba.dacya.ucm.es 100  --:--      --:--      --:--      --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ursa.dacya.ucm.es/jobmanager-grd 50   27:41      27:52      00:11      discovery 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3760" y="274320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history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play job execution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520" y="3962520"/>
            <a:ext cx="56620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9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kil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als a job (kill, stop, resume, reschedul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9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submit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s a job, or an array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9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wait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s for zombie state of a job (any, all, se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1040" y="5791320"/>
            <a:ext cx="73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Client API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s the interaction with each module,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(DMRAA subset)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Grid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y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693720"/>
            <a:ext cx="5040360" cy="3024360"/>
          </a:xfrm>
          <a:prstGeom prst="ellipse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2760" y="728640"/>
            <a:ext cx="1828800" cy="60948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Reques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772080" y="1528920"/>
            <a:ext cx="380880" cy="609480"/>
            <a:chOff x="3772080" y="1528920"/>
            <a:chExt cx="380880" cy="609480"/>
          </a:xfrm>
        </p:grpSpPr>
        <p:sp>
          <p:nvSpPr>
            <p:cNvPr id="119" name=""/>
            <p:cNvSpPr/>
            <p:nvPr/>
          </p:nvSpPr>
          <p:spPr>
            <a:xfrm>
              <a:off x="3772080" y="1528920"/>
              <a:ext cx="3808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72080" y="1681200"/>
              <a:ext cx="3808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72080" y="1833480"/>
              <a:ext cx="380880" cy="152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72080" y="1986120"/>
              <a:ext cx="3808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102920" y="1838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Job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7" idx="4"/>
            <a:endCxn id="119" idx="0"/>
          </p:cNvCxnSpPr>
          <p:nvPr/>
        </p:nvCxnSpPr>
        <p:spPr>
          <a:xfrm>
            <a:off x="3467160" y="1338120"/>
            <a:ext cx="496080" cy="19152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581120" y="1604880"/>
            <a:ext cx="1828800" cy="6098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Dispatch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95560" y="2709720"/>
            <a:ext cx="1981080" cy="6098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erformance 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2080" y="2176560"/>
            <a:ext cx="2057400" cy="60948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ubmission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5" idx="4"/>
            <a:endCxn id="126" idx="0"/>
          </p:cNvCxnSpPr>
          <p:nvPr/>
        </p:nvCxnSpPr>
        <p:spPr>
          <a:xfrm>
            <a:off x="2495160" y="2214360"/>
            <a:ext cx="591120" cy="4957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5" idx="4"/>
            <a:endCxn id="127" idx="2"/>
          </p:cNvCxnSpPr>
          <p:nvPr/>
        </p:nvCxnSpPr>
        <p:spPr>
          <a:xfrm>
            <a:off x="2495520" y="2214720"/>
            <a:ext cx="1278720" cy="267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5" idx="6"/>
            <a:endCxn id="121" idx="1"/>
          </p:cNvCxnSpPr>
          <p:nvPr/>
        </p:nvCxnSpPr>
        <p:spPr>
          <a:xfrm>
            <a:off x="3409920" y="1909800"/>
            <a:ext cx="3625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0600" y="2100240"/>
            <a:ext cx="1066680" cy="762120"/>
          </a:xfrm>
          <a:prstGeom prst="rect">
            <a:avLst/>
          </a:prstGeom>
          <a:solidFill>
            <a:srgbClr val="f07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532320"/>
            <a:ext cx="1295280" cy="838080"/>
          </a:xfrm>
          <a:prstGeom prst="rect">
            <a:avLst/>
          </a:prstGeom>
          <a:solidFill>
            <a:srgbClr val="f07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Degra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4480" y="2790720"/>
            <a:ext cx="1163520" cy="1143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esour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an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1840" y="4081320"/>
            <a:ext cx="1067040" cy="114300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2925720"/>
            <a:ext cx="1066680" cy="1143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Job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Exec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/O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heck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5157720"/>
            <a:ext cx="1224000" cy="792360"/>
          </a:xfrm>
          <a:prstGeom prst="cloudCallout">
            <a:avLst>
              <a:gd name="adj1" fmla="val -13944"/>
              <a:gd name="adj2" fmla="val -1132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5581800"/>
            <a:ext cx="1366920" cy="792000"/>
          </a:xfrm>
          <a:prstGeom prst="cloudCallout">
            <a:avLst>
              <a:gd name="adj1" fmla="val 27120"/>
              <a:gd name="adj2" fmla="val -731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 anchorCtr="1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1557360"/>
            <a:ext cx="1297080" cy="865080"/>
          </a:xfrm>
          <a:prstGeom prst="cloudCallout">
            <a:avLst>
              <a:gd name="adj1" fmla="val 305"/>
              <a:gd name="adj2" fmla="val -1660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 anchorCtr="1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GateK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40560" y="2933640"/>
            <a:ext cx="1150920" cy="792360"/>
          </a:xfrm>
          <a:prstGeom prst="cloudCallout">
            <a:avLst>
              <a:gd name="adj1" fmla="val -18412"/>
              <a:gd name="adj2" fmla="val -491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 anchorCtr="1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97800" y="2852640"/>
            <a:ext cx="1366920" cy="792360"/>
          </a:xfrm>
          <a:prstGeom prst="cloudCallout">
            <a:avLst>
              <a:gd name="adj1" fmla="val 13532"/>
              <a:gd name="adj2" fmla="val -2455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t" anchorCtr="1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Job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88200" y="3933720"/>
            <a:ext cx="647640" cy="50508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66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27920" y="4583160"/>
            <a:ext cx="1163520" cy="114300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esour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an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69320" y="4583160"/>
            <a:ext cx="1066680" cy="1143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280" y="6093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IIS/G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5800" y="60213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xecution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26160" y="9810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lient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1" idx="2"/>
            <a:endCxn id="142" idx="3"/>
          </p:cNvCxnSpPr>
          <p:nvPr/>
        </p:nvCxnSpPr>
        <p:spPr>
          <a:xfrm flipV="1" rot="10800000">
            <a:off x="7290720" y="4438440"/>
            <a:ext cx="321480" cy="716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2"/>
            <a:endCxn id="143" idx="1"/>
          </p:cNvCxnSpPr>
          <p:nvPr/>
        </p:nvCxnSpPr>
        <p:spPr>
          <a:xfrm>
            <a:off x="7612200" y="4438800"/>
            <a:ext cx="357840" cy="71640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2" idx="2"/>
            <a:endCxn id="137" idx="0"/>
          </p:cNvCxnSpPr>
          <p:nvPr/>
        </p:nvCxnSpPr>
        <p:spPr>
          <a:xfrm rot="10800000">
            <a:off x="4725360" y="5676120"/>
            <a:ext cx="1985040" cy="500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3" idx="2"/>
            <a:endCxn id="137" idx="1"/>
          </p:cNvCxnSpPr>
          <p:nvPr/>
        </p:nvCxnSpPr>
        <p:spPr>
          <a:xfrm rot="10800000">
            <a:off x="4725360" y="5676120"/>
            <a:ext cx="3777120" cy="5004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7" idx="2"/>
            <a:endCxn id="134" idx="2"/>
          </p:cNvCxnSpPr>
          <p:nvPr/>
        </p:nvCxnSpPr>
        <p:spPr>
          <a:xfrm rot="10800000">
            <a:off x="3734640" y="5223600"/>
            <a:ext cx="672120" cy="61992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7" idx="3"/>
            <a:endCxn id="133" idx="2"/>
          </p:cNvCxnSpPr>
          <p:nvPr/>
        </p:nvCxnSpPr>
        <p:spPr>
          <a:xfrm rot="10800000">
            <a:off x="1324800" y="3933000"/>
            <a:ext cx="3080520" cy="191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5" idx="3"/>
            <a:endCxn id="139" idx="0"/>
          </p:cNvCxnSpPr>
          <p:nvPr/>
        </p:nvCxnSpPr>
        <p:spPr>
          <a:xfrm flipV="1">
            <a:off x="5351040" y="3195360"/>
            <a:ext cx="492840" cy="302400"/>
          </a:xfrm>
          <a:prstGeom prst="curvedConnector5">
            <a:avLst>
              <a:gd name="adj1" fmla="val 50000"/>
              <a:gd name="adj2" fmla="val 4994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"/>
          <p:cNvCxnSpPr>
            <a:stCxn id="139" idx="1"/>
            <a:endCxn id="141" idx="1"/>
          </p:cNvCxnSpPr>
          <p:nvPr/>
        </p:nvCxnSpPr>
        <p:spPr>
          <a:xfrm>
            <a:off x="6111720" y="3029040"/>
            <a:ext cx="1178640" cy="115740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"/>
          <p:cNvCxnSpPr>
            <a:stCxn id="140" idx="0"/>
            <a:endCxn id="141" idx="3"/>
          </p:cNvCxnSpPr>
          <p:nvPr/>
        </p:nvCxnSpPr>
        <p:spPr>
          <a:xfrm>
            <a:off x="7930800" y="2923920"/>
            <a:ext cx="5400" cy="126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8" idx="0"/>
            <a:endCxn id="140" idx="1"/>
          </p:cNvCxnSpPr>
          <p:nvPr/>
        </p:nvCxnSpPr>
        <p:spPr>
          <a:xfrm flipV="1" rot="10800000">
            <a:off x="8038440" y="1634760"/>
            <a:ext cx="18000" cy="1313640"/>
          </a:xfrm>
          <a:prstGeom prst="curvedConnector5">
            <a:avLst>
              <a:gd name="adj1" fmla="val 48979"/>
              <a:gd name="adj2" fmla="val 50000"/>
              <a:gd name="adj3" fmla="val 48979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31" idx="2"/>
            <a:endCxn id="136" idx="0"/>
          </p:cNvCxnSpPr>
          <p:nvPr/>
        </p:nvCxnSpPr>
        <p:spPr>
          <a:xfrm flipH="1">
            <a:off x="562680" y="2862360"/>
            <a:ext cx="89640" cy="2319840"/>
          </a:xfrm>
          <a:prstGeom prst="straightConnector1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30240" y="4927680"/>
            <a:ext cx="1770120" cy="1525680"/>
          </a:xfrm>
          <a:custGeom>
            <a:avLst/>
            <a:gdLst/>
            <a:ahLst/>
            <a:rect l="l" t="t" r="r" b="b"/>
            <a:pathLst>
              <a:path w="1115" h="961">
                <a:moveTo>
                  <a:pt x="0" y="0"/>
                </a:moveTo>
                <a:cubicBezTo>
                  <a:pt x="54" y="14"/>
                  <a:pt x="241" y="73"/>
                  <a:pt x="327" y="86"/>
                </a:cubicBezTo>
                <a:cubicBezTo>
                  <a:pt x="413" y="99"/>
                  <a:pt x="458" y="80"/>
                  <a:pt x="519" y="77"/>
                </a:cubicBezTo>
                <a:cubicBezTo>
                  <a:pt x="580" y="74"/>
                  <a:pt x="630" y="26"/>
                  <a:pt x="691" y="67"/>
                </a:cubicBezTo>
                <a:cubicBezTo>
                  <a:pt x="752" y="108"/>
                  <a:pt x="814" y="244"/>
                  <a:pt x="883" y="326"/>
                </a:cubicBezTo>
                <a:cubicBezTo>
                  <a:pt x="952" y="408"/>
                  <a:pt x="1093" y="498"/>
                  <a:pt x="1104" y="557"/>
                </a:cubicBezTo>
                <a:cubicBezTo>
                  <a:pt x="1115" y="616"/>
                  <a:pt x="1006" y="614"/>
                  <a:pt x="951" y="681"/>
                </a:cubicBezTo>
                <a:cubicBezTo>
                  <a:pt x="896" y="748"/>
                  <a:pt x="811" y="903"/>
                  <a:pt x="774" y="96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27" idx="7"/>
            <a:endCxn id="138" idx="1"/>
          </p:cNvCxnSpPr>
          <p:nvPr/>
        </p:nvCxnSpPr>
        <p:spPr>
          <a:xfrm flipV="1">
            <a:off x="5527440" y="1842840"/>
            <a:ext cx="2329560" cy="42120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0" idx="2"/>
            <a:endCxn id="127" idx="6"/>
          </p:cNvCxnSpPr>
          <p:nvPr/>
        </p:nvCxnSpPr>
        <p:spPr>
          <a:xfrm rot="10800000">
            <a:off x="5828760" y="2480400"/>
            <a:ext cx="1891080" cy="63432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3962520" y="1333440"/>
            <a:ext cx="5121000" cy="5072040"/>
          </a:xfrm>
          <a:custGeom>
            <a:avLst/>
            <a:gdLst/>
            <a:ahLst/>
            <a:rect l="l" t="t" r="r" b="b"/>
            <a:pathLst>
              <a:path w="3226" h="3195">
                <a:moveTo>
                  <a:pt x="0" y="3195"/>
                </a:moveTo>
                <a:cubicBezTo>
                  <a:pt x="45" y="3104"/>
                  <a:pt x="112" y="2770"/>
                  <a:pt x="269" y="2648"/>
                </a:cubicBezTo>
                <a:cubicBezTo>
                  <a:pt x="426" y="2526"/>
                  <a:pt x="790" y="2550"/>
                  <a:pt x="941" y="2465"/>
                </a:cubicBezTo>
                <a:cubicBezTo>
                  <a:pt x="1092" y="2380"/>
                  <a:pt x="1107" y="2229"/>
                  <a:pt x="1176" y="2139"/>
                </a:cubicBezTo>
                <a:cubicBezTo>
                  <a:pt x="1245" y="2049"/>
                  <a:pt x="1296" y="1985"/>
                  <a:pt x="1356" y="1923"/>
                </a:cubicBezTo>
                <a:cubicBezTo>
                  <a:pt x="1416" y="1861"/>
                  <a:pt x="1470" y="1803"/>
                  <a:pt x="1536" y="1767"/>
                </a:cubicBezTo>
                <a:cubicBezTo>
                  <a:pt x="1602" y="1731"/>
                  <a:pt x="1690" y="1733"/>
                  <a:pt x="1752" y="1707"/>
                </a:cubicBezTo>
                <a:cubicBezTo>
                  <a:pt x="1814" y="1681"/>
                  <a:pt x="1864" y="1648"/>
                  <a:pt x="1910" y="1611"/>
                </a:cubicBezTo>
                <a:cubicBezTo>
                  <a:pt x="1956" y="1574"/>
                  <a:pt x="1976" y="1580"/>
                  <a:pt x="2026" y="1486"/>
                </a:cubicBezTo>
                <a:cubicBezTo>
                  <a:pt x="2076" y="1392"/>
                  <a:pt x="2138" y="1264"/>
                  <a:pt x="2208" y="1045"/>
                </a:cubicBezTo>
                <a:cubicBezTo>
                  <a:pt x="2278" y="826"/>
                  <a:pt x="2336" y="342"/>
                  <a:pt x="2448" y="171"/>
                </a:cubicBezTo>
                <a:cubicBezTo>
                  <a:pt x="2560" y="0"/>
                  <a:pt x="2750" y="23"/>
                  <a:pt x="2880" y="17"/>
                </a:cubicBezTo>
                <a:cubicBezTo>
                  <a:pt x="3010" y="11"/>
                  <a:pt x="3154" y="109"/>
                  <a:pt x="3226" y="13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7560" y="171936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Arial"/>
              </a:rPr>
              <a:t>GRAM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50880" y="227664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Arial"/>
              </a:rPr>
              <a:t>GRAM call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5800" y="125424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ubmis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ource Selector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965160"/>
            <a:ext cx="4824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1695600"/>
            <a:ext cx="4824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060640"/>
            <a:ext cx="4824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9272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74872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498920" y="939960"/>
            <a:ext cx="4537080" cy="1296720"/>
            <a:chOff x="4498920" y="939960"/>
            <a:chExt cx="4537080" cy="1296720"/>
          </a:xfrm>
        </p:grpSpPr>
        <p:sp>
          <p:nvSpPr>
            <p:cNvPr id="175" name=""/>
            <p:cNvSpPr/>
            <p:nvPr/>
          </p:nvSpPr>
          <p:spPr>
            <a:xfrm>
              <a:off x="4498920" y="939960"/>
              <a:ext cx="4537080" cy="1296720"/>
            </a:xfrm>
            <a:prstGeom prst="foldedCorner">
              <a:avLst>
                <a:gd name="adj" fmla="val 14634"/>
              </a:avLst>
            </a:prstGeom>
            <a:solidFill>
              <a:srgbClr val="ffbd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8360" y="172728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7360" y="1727280"/>
              <a:ext cx="158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job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9920" y="1727280"/>
              <a:ext cx="122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job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172728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draco.ucm.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8360" y="136224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67360" y="1362240"/>
              <a:ext cx="158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jobmanager-s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49920" y="1362240"/>
              <a:ext cx="122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job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136224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ursa.ucm.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15280" y="996840"/>
              <a:ext cx="647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67360" y="996840"/>
              <a:ext cx="158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exec-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49920" y="996840"/>
              <a:ext cx="1224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stage-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996840"/>
              <a:ext cx="136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FQD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362240"/>
              <a:ext cx="439272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11840" y="1373040"/>
              <a:ext cx="1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07320" y="1373040"/>
              <a:ext cx="1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72520" y="1373040"/>
              <a:ext cx="1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72880" y="692280"/>
            <a:ext cx="3075120" cy="1296720"/>
          </a:xfrm>
          <a:prstGeom prst="foldedCorner">
            <a:avLst>
              <a:gd name="adj" fmla="val 12500"/>
            </a:avLst>
          </a:prstGeom>
          <a:solidFill>
            <a:srgbClr val="ffbd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8200" y="636480"/>
            <a:ext cx="203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nk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040" y="1066680"/>
            <a:ext cx="3351240" cy="1067040"/>
          </a:xfrm>
          <a:prstGeom prst="foldedCorner">
            <a:avLst>
              <a:gd name="adj" fmla="val 12500"/>
            </a:avLst>
          </a:prstGeom>
          <a:solidFill>
            <a:srgbClr val="ffbd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480" y="979560"/>
            <a:ext cx="3350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&amp;(Mds-Computer-isa=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par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Mds-Memory-Ram-fr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≥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56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 flipV="1">
            <a:off x="4443480" y="2267640"/>
            <a:ext cx="2340360" cy="83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4" idx="2"/>
          </p:cNvCxnSpPr>
          <p:nvPr/>
        </p:nvCxnSpPr>
        <p:spPr>
          <a:xfrm>
            <a:off x="2174400" y="2133360"/>
            <a:ext cx="1605960" cy="9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974880" y="294804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DAP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6160" y="2259000"/>
            <a:ext cx="8762760" cy="4178160"/>
            <a:chOff x="146160" y="2259000"/>
            <a:chExt cx="8762760" cy="4178160"/>
          </a:xfrm>
        </p:grpSpPr>
        <p:sp>
          <p:nvSpPr>
            <p:cNvPr id="200" name=""/>
            <p:cNvSpPr/>
            <p:nvPr/>
          </p:nvSpPr>
          <p:spPr>
            <a:xfrm>
              <a:off x="5164200" y="2765520"/>
              <a:ext cx="3744720" cy="3671640"/>
            </a:xfrm>
            <a:prstGeom prst="roundRect">
              <a:avLst>
                <a:gd name="adj" fmla="val 8815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66920" y="2259000"/>
              <a:ext cx="1828800" cy="6094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Dispatch 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16400" y="3541680"/>
              <a:ext cx="1395360" cy="719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Disco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51320" y="4957920"/>
              <a:ext cx="1325520" cy="7189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3540240"/>
              <a:ext cx="1224000" cy="792000"/>
            </a:xfrm>
            <a:prstGeom prst="cloudCallout">
              <a:avLst>
                <a:gd name="adj1" fmla="val -13944"/>
                <a:gd name="adj2" fmla="val -11324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94320" y="5484960"/>
              <a:ext cx="1224000" cy="792000"/>
            </a:xfrm>
            <a:prstGeom prst="cloudCallout">
              <a:avLst>
                <a:gd name="adj1" fmla="val -9532"/>
                <a:gd name="adj2" fmla="val -1112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251400" y="4185720"/>
              <a:ext cx="36036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473960" y="4043520"/>
              <a:ext cx="595440" cy="75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04120" y="4724280"/>
              <a:ext cx="1224000" cy="792360"/>
            </a:xfrm>
            <a:prstGeom prst="cloudCallout">
              <a:avLst>
                <a:gd name="adj1" fmla="val -9532"/>
                <a:gd name="adj2" fmla="val -1112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5" idx="0"/>
              <a:endCxn id="204" idx="0"/>
            </p:cNvCxnSpPr>
            <p:nvPr/>
          </p:nvCxnSpPr>
          <p:spPr>
            <a:xfrm flipH="1" flipV="1">
              <a:off x="6693840" y="3610800"/>
              <a:ext cx="229320" cy="189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3835440" y="4309920"/>
              <a:ext cx="1440" cy="6019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79760" y="4309920"/>
              <a:ext cx="1800" cy="6001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2938320"/>
              <a:ext cx="1440" cy="6019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63920" y="2938320"/>
              <a:ext cx="1800" cy="6019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811760" y="3889080"/>
              <a:ext cx="1584360" cy="12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03" idx="6"/>
              <a:endCxn id="216" idx="0"/>
            </p:cNvCxnSpPr>
            <p:nvPr/>
          </p:nvCxnSpPr>
          <p:spPr>
            <a:xfrm flipV="1">
              <a:off x="4776840" y="5025240"/>
              <a:ext cx="792720" cy="29124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"/>
            <p:cNvCxnSpPr>
              <a:stCxn id="203" idx="6"/>
              <a:endCxn id="205" idx="1"/>
            </p:cNvCxnSpPr>
            <p:nvPr/>
          </p:nvCxnSpPr>
          <p:spPr>
            <a:xfrm>
              <a:off x="4776840" y="5316120"/>
              <a:ext cx="1728000" cy="43092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 flipV="1">
              <a:off x="4843440" y="5267160"/>
              <a:ext cx="2631960" cy="51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31120" y="352440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Filtered LDAP sear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96480" y="5573880"/>
              <a:ext cx="13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LDAP  qu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6160" y="3395520"/>
              <a:ext cx="8553240" cy="1081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6160" y="4692600"/>
              <a:ext cx="8553240" cy="1655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400" y="3400560"/>
              <a:ext cx="3317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 u="sng">
                  <a:solidFill>
                    <a:srgbClr val="f07800"/>
                  </a:solidFill>
                  <a:uFillTx/>
                  <a:latin typeface="Arial Narrow"/>
                </a:rPr>
                <a:t>Static Information (S.O., architecture)</a:t>
              </a:r>
              <a:r>
                <a:rPr b="0" lang="en-GB" sz="1800" spc="-1" strike="noStrike" u="sng">
                  <a:solidFill>
                    <a:srgbClr val="f07800"/>
                  </a:solidFill>
                  <a:uFillTx/>
                  <a:latin typeface="Arial Narrow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1080" indent="180720">
                <a:lnSpc>
                  <a:spcPct val="130000"/>
                </a:lnSpc>
                <a:buClr>
                  <a:srgbClr val="3366cc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 Narrow"/>
                  <a:ea typeface="DejaVuSans"/>
                </a:rPr>
                <a:t>User-provided 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1080" indent="180720">
                <a:lnSpc>
                  <a:spcPct val="13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DejaVuSans"/>
                </a:rPr>
                <a:t>Authorization t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6680" y="4764240"/>
              <a:ext cx="4572000" cy="14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 u="sng">
                  <a:solidFill>
                    <a:srgbClr val="f07800"/>
                  </a:solidFill>
                  <a:uFillTx/>
                  <a:latin typeface="Arial Narrow"/>
                </a:rPr>
                <a:t>Dynamic Information (CPU load, …)</a:t>
              </a:r>
              <a:r>
                <a:rPr b="0" lang="en-GB" sz="1800" spc="-1" strike="noStrike" u="sng">
                  <a:solidFill>
                    <a:srgbClr val="f07800"/>
                  </a:solidFill>
                  <a:uFillTx/>
                  <a:latin typeface="Arial Narrow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600">
                <a:lnSpc>
                  <a:spcPct val="130000"/>
                </a:lnSpc>
                <a:buClr>
                  <a:srgbClr val="3366cc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 Narrow"/>
                  <a:ea typeface="DejaVuSans"/>
                </a:rPr>
                <a:t>Rank ex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600">
                <a:lnSpc>
                  <a:spcPct val="13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DejaVuSans"/>
                </a:rPr>
                <a:t>User provided execu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600">
                <a:lnSpc>
                  <a:spcPct val="13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DejaVuSans"/>
                </a:rPr>
                <a:t>Characterize discovered h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92720" y="2787480"/>
              <a:ext cx="349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lobus Monitoring and Discovery Service (MDS)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59400" y="4764240"/>
              <a:ext cx="1224000" cy="792000"/>
            </a:xfrm>
            <a:prstGeom prst="cloudCallout">
              <a:avLst>
                <a:gd name="adj1" fmla="val -9532"/>
                <a:gd name="adj2" fmla="val -1112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ource Selector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39640" y="2236680"/>
            <a:ext cx="4392720" cy="1263600"/>
            <a:chOff x="539640" y="2236680"/>
            <a:chExt cx="4392720" cy="1263600"/>
          </a:xfrm>
        </p:grpSpPr>
        <p:sp>
          <p:nvSpPr>
            <p:cNvPr id="228" name=""/>
            <p:cNvSpPr/>
            <p:nvPr/>
          </p:nvSpPr>
          <p:spPr>
            <a:xfrm>
              <a:off x="539640" y="2276640"/>
              <a:ext cx="4392720" cy="122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840" y="2236680"/>
              <a:ext cx="429048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1080" indent="-181080">
                <a:lnSpc>
                  <a:spcPct val="130000"/>
                </a:lnSpc>
                <a:tabLst>
                  <a:tab algn="l" pos="0"/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Estimated Computational Tim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mputational work </a:t>
              </a: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already perfor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f078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Dynamic performanc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of the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132000" y="3613320"/>
            <a:ext cx="5761080" cy="2808000"/>
            <a:chOff x="3132000" y="3613320"/>
            <a:chExt cx="5761080" cy="2808000"/>
          </a:xfrm>
        </p:grpSpPr>
        <p:sp>
          <p:nvSpPr>
            <p:cNvPr id="231" name=""/>
            <p:cNvSpPr/>
            <p:nvPr/>
          </p:nvSpPr>
          <p:spPr>
            <a:xfrm>
              <a:off x="3132000" y="3613320"/>
              <a:ext cx="5761080" cy="2808000"/>
            </a:xfrm>
            <a:prstGeom prst="roundRect">
              <a:avLst>
                <a:gd name="adj" fmla="val 8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99320" y="3645000"/>
              <a:ext cx="5686920" cy="27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1080" indent="-181080">
                <a:lnSpc>
                  <a:spcPct val="120000"/>
                </a:lnSpc>
                <a:tabLst>
                  <a:tab algn="l" pos="0"/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Estimated File Transfer Time betwee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f078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Client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st and </a:t>
              </a: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candidate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ecution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1666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Job submission and moni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1666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File staging (executable, input/output files)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f078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File server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nd candidate execution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1666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Input/output 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andidate execution host and </a:t>
              </a: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current execution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1666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Restart 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106720" y="836640"/>
            <a:ext cx="4930560" cy="934920"/>
            <a:chOff x="2106720" y="836640"/>
            <a:chExt cx="4930560" cy="934920"/>
          </a:xfrm>
        </p:grpSpPr>
        <p:sp>
          <p:nvSpPr>
            <p:cNvPr id="234" name=""/>
            <p:cNvSpPr/>
            <p:nvPr/>
          </p:nvSpPr>
          <p:spPr>
            <a:xfrm>
              <a:off x="2106720" y="836640"/>
              <a:ext cx="493056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2040" y="884160"/>
              <a:ext cx="465228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Estimated execution time </a:t>
              </a: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(lowest is best)</a:t>
              </a: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Rank = T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exe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,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) = T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cpu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,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) + T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xfer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,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)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H="1">
            <a:off x="2698920" y="1628640"/>
            <a:ext cx="2234880" cy="5763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794200" y="1628640"/>
            <a:ext cx="363600" cy="19447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TEBOOK</dc:creator>
  <dc:description/>
  <dc:language>en-US</dc:language>
  <cp:lastModifiedBy>eva </cp:lastModifiedBy>
  <cp:revision>0</cp:revision>
  <dc:subject/>
  <dc:title>Presentación de PowerPoint</dc:title>
</cp:coreProperties>
</file>